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52E-422F-41C8-9DE3-15D2A1CF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B1A-5666-4B0B-A2FF-8A6352F1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E57-879C-4F2E-97D1-999415B5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C9D-3DDD-440E-86FB-77C37217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3CC-1EC9-4971-BA7B-38A13C3B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BAD-B479-4E70-83B1-EC13F55A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2A2-455C-415C-A254-A74C8762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97E-AE4B-480E-8A61-0A5B0F6D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94D-4450-4A7D-BF48-F3CE9251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A65-7A86-4B7B-8833-BBA3DB32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83B-E945-4D51-AC38-30870CD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1A6-A0EC-4AF6-B987-621CFC2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A839-D00C-45AF-BE04-563A49A10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kereszt mondta el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kereszt mondta el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gadni több nem lehet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t megmutatta, hogy szeret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keresztből megérthető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z Úr Jézus a Megmentő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le üzente a hű Atya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öjj gyermekem, jöjj haz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304920"/>
            <a:ext cx="762120" cy="1828800"/>
            <a:chOff x="380880" y="304920"/>
            <a:chExt cx="762120" cy="1828800"/>
          </a:xfrm>
        </p:grpSpPr>
        <p:sp>
          <p:nvSpPr>
            <p:cNvPr id="43" name=""/>
            <p:cNvSpPr/>
            <p:nvPr/>
          </p:nvSpPr>
          <p:spPr>
            <a:xfrm>
              <a:off x="762120" y="304920"/>
              <a:ext cx="0" cy="182880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0880" y="609480"/>
              <a:ext cx="7621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gyelmed Jézu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lém olyan nagy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milyen távol van földtől a nap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 ahogy nyugattól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ssze napkelet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űnünket olyan messze ve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80880" y="304920"/>
            <a:ext cx="762120" cy="1828800"/>
            <a:chOff x="380880" y="304920"/>
            <a:chExt cx="762120" cy="1828800"/>
          </a:xfrm>
        </p:grpSpPr>
        <p:sp>
          <p:nvSpPr>
            <p:cNvPr id="47" name=""/>
            <p:cNvSpPr/>
            <p:nvPr/>
          </p:nvSpPr>
          <p:spPr>
            <a:xfrm>
              <a:off x="762120" y="304920"/>
              <a:ext cx="0" cy="182880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880" y="609480"/>
              <a:ext cx="7621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kereszt mondta el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kereszt mondta el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Én akkor ismertelek meg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kor megláttam a kereszted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hol értünk folyt a drága vér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áltság minden bűnünkért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rból vagyunk, por leszünk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 mégis meghaltál értün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304920"/>
            <a:ext cx="762120" cy="1828800"/>
            <a:chOff x="380880" y="304920"/>
            <a:chExt cx="762120" cy="1828800"/>
          </a:xfrm>
        </p:grpSpPr>
        <p:sp>
          <p:nvSpPr>
            <p:cNvPr id="51" name=""/>
            <p:cNvSpPr/>
            <p:nvPr/>
          </p:nvSpPr>
          <p:spPr>
            <a:xfrm>
              <a:off x="762120" y="304920"/>
              <a:ext cx="0" cy="182880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880" y="609480"/>
              <a:ext cx="7621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gyelmed Jézu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lém olyan nagy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milyen távol van földtől a nap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 ahogy nyugattól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ssze napkelet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űnünket olyan messze veted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ly hű, oly jó vagy Te,   3x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ly J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880" y="304920"/>
            <a:ext cx="762120" cy="1828800"/>
            <a:chOff x="380880" y="304920"/>
            <a:chExt cx="762120" cy="1828800"/>
          </a:xfrm>
        </p:grpSpPr>
        <p:sp>
          <p:nvSpPr>
            <p:cNvPr id="55" name=""/>
            <p:cNvSpPr/>
            <p:nvPr/>
          </p:nvSpPr>
          <p:spPr>
            <a:xfrm>
              <a:off x="762120" y="304920"/>
              <a:ext cx="0" cy="182880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0880" y="609480"/>
              <a:ext cx="7621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2:13:13Z</dcterms:created>
  <dc:creator>kelédi géza</dc:creator>
  <dc:description/>
  <dc:language>en-US</dc:language>
  <cp:lastModifiedBy>Baptista Gyülekezet</cp:lastModifiedBy>
  <dcterms:modified xsi:type="dcterms:W3CDTF">2006-04-16T15:18:03Z</dcterms:modified>
  <cp:revision>3</cp:revision>
  <dc:subject/>
  <dc:title>A kereszt mondta el, a kereszt mondta el, tagadni több nem lehet, mert megmutatta, hogy szeret. A keresztből megérthető az Úr Jézus a Megmentő, vele üzente a hű Atya: jöjj gyermekem, jöjj haza!</dc:title>
</cp:coreProperties>
</file>